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7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AE26-CE33-4788-826C-38204266E588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joneuvotiedoilla ei paljon merkitystä tässä versio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Päivitykset lähetetään rekisteröitymiskaavakkeeseen merkattavaan sähköpostiosoitteeseen. Rekisteröintilomake pitää lähettää, jotta ohjelma toimii täydellisest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Tietokantoja voi jakaa haluamallaan tava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250040" y="6232680"/>
            <a:ext cx="1785960" cy="5810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304920" y="304920"/>
            <a:ext cx="450720" cy="45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5.jpeg"/><Relationship Id="rId10" Type="http://schemas.openxmlformats.org/officeDocument/2006/relationships/image" Target="../media/image24.png"/><Relationship Id="rId11" Type="http://schemas.openxmlformats.org/officeDocument/2006/relationships/image" Target="../media/image29.jpeg"/><Relationship Id="rId1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92080" y="2666880"/>
            <a:ext cx="737568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4e"/>
                </a:solidFill>
                <a:latin typeface="Times New Roman"/>
              </a:rPr>
              <a:t>TACHOSTO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4e"/>
                </a:solidFill>
                <a:latin typeface="Times New Roman"/>
              </a:rPr>
              <a:t>Ratkaisu kuljetusyrityksil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129440" y="6276960"/>
            <a:ext cx="1785960" cy="58104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5800" y="340848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073440" y="3983040"/>
            <a:ext cx="21420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60880" y="492588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04560"/>
            <a:ext cx="9144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7a4e"/>
                </a:solidFill>
                <a:latin typeface="Times New Roman"/>
              </a:rPr>
              <a:t>TACHO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1337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828800"/>
            <a:ext cx="359892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Lisätoiminto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värit ilmaisevat mikä on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piirturin/kortin tallennustila;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vihreä=ok                        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oranssi=lataus suoritettava x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päivän sisällä                       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punainen=yli määräaj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voidaan ottaa tuloste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piirtureista, jotka pitää ladata x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pvm sisällä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tietokantoja voi jakaa eri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ryhmille haluamallaan tava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Store1" descr=""/>
          <p:cNvPicPr/>
          <p:nvPr/>
        </p:nvPicPr>
        <p:blipFill>
          <a:blip r:embed="rId1"/>
          <a:stretch/>
        </p:blipFill>
        <p:spPr>
          <a:xfrm>
            <a:off x="468360" y="2781360"/>
            <a:ext cx="475128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5800" y="340848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73440" y="3983040"/>
            <a:ext cx="21420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60880" y="492588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04560"/>
            <a:ext cx="9144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7a4e"/>
                </a:solidFill>
                <a:latin typeface="Times New Roman"/>
              </a:rPr>
              <a:t>TACHO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21337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4120" y="2057400"/>
            <a:ext cx="403848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Parametr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ajoneuvot voidaan näyttää listassa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VRN- tai VIN-numeron mukaan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kuljettakortit voidaan näyttää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listassa kortinnumeron tai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kuljettajan nimen muka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voidaan määrittää piirturilta tai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kortilta suoritettavien kahden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latauksen välinen aik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5 erilaista (DDD,ESM,BIN)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tiedostopäätemahdollisuut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Store3" descr=""/>
          <p:cNvPicPr/>
          <p:nvPr/>
        </p:nvPicPr>
        <p:blipFill>
          <a:blip r:embed="rId1"/>
          <a:stretch/>
        </p:blipFill>
        <p:spPr>
          <a:xfrm>
            <a:off x="468360" y="2781360"/>
            <a:ext cx="475128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5800" y="340848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073440" y="3983040"/>
            <a:ext cx="21420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60880" y="492588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04560"/>
            <a:ext cx="9144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7a4e"/>
                </a:solidFill>
                <a:latin typeface="Times New Roman"/>
              </a:rPr>
              <a:t>TACH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21337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70480" y="2666880"/>
            <a:ext cx="3809880" cy="32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Työjakson valin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näyttää piirturitiedostot vuositt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ilmoittaa värikoodein mitä tietoja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kussakin kuussa on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tarkasteltav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näyttää piirturia ja kyseenomaista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latausta koskevia tieto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905120"/>
            <a:ext cx="7238880" cy="11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Piirturitietojen analysointiohjelmis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(yhteinen tietokanta TachoStoren kans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Scope1" descr=""/>
          <p:cNvPicPr/>
          <p:nvPr/>
        </p:nvPicPr>
        <p:blipFill>
          <a:blip r:embed="rId1"/>
          <a:stretch/>
        </p:blipFill>
        <p:spPr>
          <a:xfrm>
            <a:off x="468360" y="2781360"/>
            <a:ext cx="475128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5800" y="340848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073440" y="3983040"/>
            <a:ext cx="21420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60880" y="492588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04560"/>
            <a:ext cx="9144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7a4e"/>
                </a:solidFill>
                <a:latin typeface="Times New Roman"/>
              </a:rPr>
              <a:t>TACH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21337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70480" y="2666880"/>
            <a:ext cx="380988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Toimintatied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näyttää piirturille tallentuneet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päivittäiset toimin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listaa kuljettajat, jotka ovat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käyttäneet piirtu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määrittää periodit, jolloin ajettu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ilman kuljettajakortt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mahdollistaa kyseisten perioiden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identifioimi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Scope2" descr=""/>
          <p:cNvPicPr/>
          <p:nvPr/>
        </p:nvPicPr>
        <p:blipFill>
          <a:blip r:embed="rId1"/>
          <a:stretch/>
        </p:blipFill>
        <p:spPr>
          <a:xfrm>
            <a:off x="468360" y="2781360"/>
            <a:ext cx="475128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5800" y="340848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073440" y="3983040"/>
            <a:ext cx="21420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60880" y="492588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21337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59400" y="2685960"/>
            <a:ext cx="3505320" cy="36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Nopeustied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Nopeusasteikko 5 tunnista 5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sekunti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nopeuskaavio mahdollistaa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ylinopeustietojen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analysoinnin kuljettajitt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mahdollistaa eri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nopeusjaksojen keston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mittaamisen kursoreiden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avu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04560"/>
            <a:ext cx="9144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7a4e"/>
                </a:solidFill>
                <a:latin typeface="Times New Roman"/>
              </a:rPr>
              <a:t>TACH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Scope3" descr=""/>
          <p:cNvPicPr/>
          <p:nvPr/>
        </p:nvPicPr>
        <p:blipFill>
          <a:blip r:embed="rId1"/>
          <a:stretch/>
        </p:blipFill>
        <p:spPr>
          <a:xfrm>
            <a:off x="468360" y="2781360"/>
            <a:ext cx="475128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5800" y="340848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073440" y="3983040"/>
            <a:ext cx="21420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60880" y="492588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21337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4120" y="2655720"/>
            <a:ext cx="380988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Tapahtuma- ja virhetied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lista tapahtuma- ja virhetiedoista,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ylinopeustiedoista sekä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ajanmuutostiedois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mahdollistaa piirturissa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ilmenevien toistuvien ongelmien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tarkkailemise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04560"/>
            <a:ext cx="9144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7a4e"/>
                </a:solidFill>
                <a:latin typeface="Times New Roman"/>
              </a:rPr>
              <a:t>TACH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Scope4" descr=""/>
          <p:cNvPicPr/>
          <p:nvPr/>
        </p:nvPicPr>
        <p:blipFill>
          <a:blip r:embed="rId1"/>
          <a:stretch/>
        </p:blipFill>
        <p:spPr>
          <a:xfrm>
            <a:off x="468360" y="2781360"/>
            <a:ext cx="475128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5800" y="340848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073440" y="3983040"/>
            <a:ext cx="21420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60880" y="492588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21337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2655720"/>
            <a:ext cx="380988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Tekniset tied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lista piirturiin suoritetuista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kalibroinneist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näyttää kalibrointien yhteydessä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syötetyt kalibrointitiedo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04560"/>
            <a:ext cx="9144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7a4e"/>
                </a:solidFill>
                <a:latin typeface="Times New Roman"/>
              </a:rPr>
              <a:t>TACH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Scope5" descr=""/>
          <p:cNvPicPr/>
          <p:nvPr/>
        </p:nvPicPr>
        <p:blipFill>
          <a:blip r:embed="rId1"/>
          <a:stretch/>
        </p:blipFill>
        <p:spPr>
          <a:xfrm>
            <a:off x="468360" y="2781360"/>
            <a:ext cx="475128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45800" y="340848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073440" y="3983040"/>
            <a:ext cx="21420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60880" y="492588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04560"/>
            <a:ext cx="9144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7a4e"/>
                </a:solidFill>
                <a:latin typeface="Times New Roman"/>
              </a:rPr>
              <a:t>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21337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905120"/>
            <a:ext cx="7238880" cy="11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Kuljettajakortin tietojen analysointiohjelmis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Solid1" descr=""/>
          <p:cNvPicPr/>
          <p:nvPr/>
        </p:nvPicPr>
        <p:blipFill>
          <a:blip r:embed="rId1"/>
          <a:stretch/>
        </p:blipFill>
        <p:spPr>
          <a:xfrm>
            <a:off x="468360" y="2781360"/>
            <a:ext cx="4751280" cy="3456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334120" y="2655720"/>
            <a:ext cx="3809880" cy="36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Työjakson valin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voit lisätä, poistaa ja muokata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yritys-, kuljettaja- ja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ajoneuvotieto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valitse yritys, kuljettaja ja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kuukausi, minkä tietoja haluat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tarkast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kalenterista voit nähdä minä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päivinä kuljettajalla on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toimintatieto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5800" y="340848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073440" y="3983040"/>
            <a:ext cx="21420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60880" y="492588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04560"/>
            <a:ext cx="9144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7a4e"/>
                </a:solidFill>
                <a:latin typeface="Times New Roman"/>
              </a:rPr>
              <a:t>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21337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2666880"/>
            <a:ext cx="3962520" cy="32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Kuljettajakortin lukemin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Kaksi vaihtoehto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suora luku kortilta (esim. D-bo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avataan jollain muulla ohjelmistolla  (esim. TahcoStore) ladattu tiedosto tietokanna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Muutetaan tiedosto MDTP-hallinnan avulla SOLID-muoto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8458200" y="5181480"/>
          <a:ext cx="399960" cy="3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58200" y="5181480"/>
                    <a:ext cx="39996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3" name="Solid3" descr=""/>
          <p:cNvPicPr/>
          <p:nvPr/>
        </p:nvPicPr>
        <p:blipFill>
          <a:blip r:embed="rId3"/>
          <a:stretch/>
        </p:blipFill>
        <p:spPr>
          <a:xfrm>
            <a:off x="468360" y="2781360"/>
            <a:ext cx="475128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45800" y="340848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73440" y="3983040"/>
            <a:ext cx="21420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60880" y="492588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04560"/>
            <a:ext cx="9144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7a4e"/>
                </a:solidFill>
                <a:latin typeface="Times New Roman"/>
              </a:rPr>
              <a:t>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21337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4120" y="2655720"/>
            <a:ext cx="3809880" cy="36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Grafiikan tarkastel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näkymä kuljettajan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toimintatiedoista kyseiseltä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kuukaude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näkymästä mahdollista ottaa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kuukausittainen tai viikottainen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tulo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tulosteessa yhteenveto kuljettajan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eri toimintatila-ajoista, esim.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kuukauden kokonaisajoaik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Solid2" descr=""/>
          <p:cNvPicPr/>
          <p:nvPr/>
        </p:nvPicPr>
        <p:blipFill>
          <a:blip r:embed="rId1"/>
          <a:stretch/>
        </p:blipFill>
        <p:spPr>
          <a:xfrm>
            <a:off x="468360" y="2781360"/>
            <a:ext cx="475128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28800" y="4648320"/>
            <a:ext cx="450720" cy="457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828800" y="3962520"/>
            <a:ext cx="450720" cy="457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828800" y="3276720"/>
            <a:ext cx="45072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828800" y="2590920"/>
            <a:ext cx="450720" cy="457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362320" y="25909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YLEISTÄ TIET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3276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TACHO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3962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TACH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46483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216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400" spc="-1" strike="noStrike">
                <a:solidFill>
                  <a:srgbClr val="007a4e"/>
                </a:solidFill>
                <a:latin typeface="Times New Roman"/>
              </a:rPr>
              <a:t>ESITTELYN</a:t>
            </a:r>
            <a:br>
              <a:rPr sz="2400"/>
            </a:br>
            <a:r>
              <a:rPr b="1" lang="sv-SE" sz="2400" spc="-1" strike="noStrike">
                <a:solidFill>
                  <a:srgbClr val="007a4e"/>
                </a:solidFill>
                <a:latin typeface="Times New Roman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53341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TIEDONSIIRTORATKAIS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1828800" y="5334120"/>
            <a:ext cx="450720" cy="457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5800" y="340848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073440" y="3983040"/>
            <a:ext cx="21420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960880" y="492588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04560"/>
            <a:ext cx="9144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7a4e"/>
                </a:solidFill>
                <a:latin typeface="Times New Roman"/>
              </a:rPr>
              <a:t>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21337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4120" y="2655720"/>
            <a:ext cx="3809880" cy="38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Muita toiminto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voit pitää listaa kuljettajan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palkallisista ja palkattomista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poissaoloista ja poissaolojen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syist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voit ylläpitää kuljettaja- ja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ajoneuvorekisteri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voit muokata kuljettajan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toimintatietoja jälkikät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Solid5" descr=""/>
          <p:cNvPicPr/>
          <p:nvPr/>
        </p:nvPicPr>
        <p:blipFill>
          <a:blip r:embed="rId1"/>
          <a:stretch/>
        </p:blipFill>
        <p:spPr>
          <a:xfrm>
            <a:off x="2971800" y="4191120"/>
            <a:ext cx="2247840" cy="1635120"/>
          </a:xfrm>
          <a:prstGeom prst="rect">
            <a:avLst/>
          </a:prstGeom>
          <a:ln w="0">
            <a:noFill/>
          </a:ln>
        </p:spPr>
      </p:pic>
      <p:pic>
        <p:nvPicPr>
          <p:cNvPr id="178" name="Solid6" descr=""/>
          <p:cNvPicPr/>
          <p:nvPr/>
        </p:nvPicPr>
        <p:blipFill>
          <a:blip r:embed="rId2"/>
          <a:stretch/>
        </p:blipFill>
        <p:spPr>
          <a:xfrm>
            <a:off x="1600200" y="3048120"/>
            <a:ext cx="2351160" cy="1711080"/>
          </a:xfrm>
          <a:prstGeom prst="rect">
            <a:avLst/>
          </a:prstGeom>
          <a:ln w="0">
            <a:noFill/>
          </a:ln>
        </p:spPr>
      </p:pic>
      <p:pic>
        <p:nvPicPr>
          <p:cNvPr id="179" name="Solid7" descr=""/>
          <p:cNvPicPr/>
          <p:nvPr/>
        </p:nvPicPr>
        <p:blipFill>
          <a:blip r:embed="rId3"/>
          <a:stretch/>
        </p:blipFill>
        <p:spPr>
          <a:xfrm>
            <a:off x="468360" y="4267080"/>
            <a:ext cx="2247840" cy="1635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304560"/>
            <a:ext cx="9144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7a4e"/>
                </a:solidFill>
                <a:latin typeface="Times New Roman"/>
              </a:rPr>
              <a:t>Kuljetusyrityksen tiedonsii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Kuljetusyrityksen pitää ladata kuljettajan toimintatiedot piirturilta 2 kuukauden välein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kuljettajakortilta 3 viikon väl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Tiedot ladataan tiedonsiirtolaitteella ja tallennetaan tietokoneelle tallennusohjelmist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Tiedonsiirto onnistuu vain silloin, kun yrityskortti on syötettynä digipiirturi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Kuva%20Smartachista" descr=""/>
          <p:cNvPicPr/>
          <p:nvPr/>
        </p:nvPicPr>
        <p:blipFill>
          <a:blip r:embed="rId1"/>
          <a:stretch/>
        </p:blipFill>
        <p:spPr>
          <a:xfrm>
            <a:off x="5257800" y="2209680"/>
            <a:ext cx="1733400" cy="482760"/>
          </a:xfrm>
          <a:prstGeom prst="rect">
            <a:avLst/>
          </a:prstGeom>
          <a:ln w="0">
            <a:noFill/>
          </a:ln>
        </p:spPr>
      </p:pic>
      <p:pic>
        <p:nvPicPr>
          <p:cNvPr id="183" name="D-Box1" descr=""/>
          <p:cNvPicPr/>
          <p:nvPr/>
        </p:nvPicPr>
        <p:blipFill>
          <a:blip r:embed="rId2"/>
          <a:stretch/>
        </p:blipFill>
        <p:spPr>
          <a:xfrm>
            <a:off x="6629400" y="3505320"/>
            <a:ext cx="7192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6173280" y="5002200"/>
            <a:ext cx="1688040" cy="1093680"/>
            <a:chOff x="6173280" y="5002200"/>
            <a:chExt cx="1688040" cy="1093680"/>
          </a:xfrm>
        </p:grpSpPr>
        <p:pic>
          <p:nvPicPr>
            <p:cNvPr id="185" name="tietokone" descr=""/>
            <p:cNvPicPr/>
            <p:nvPr/>
          </p:nvPicPr>
          <p:blipFill>
            <a:blip r:embed="rId3"/>
            <a:stretch/>
          </p:blipFill>
          <p:spPr>
            <a:xfrm>
              <a:off x="6641640" y="5259600"/>
              <a:ext cx="775080" cy="83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Solidview%20(iso)" descr=""/>
            <p:cNvPicPr/>
            <p:nvPr/>
          </p:nvPicPr>
          <p:blipFill>
            <a:blip r:embed="rId4"/>
            <a:stretch/>
          </p:blipFill>
          <p:spPr>
            <a:xfrm>
              <a:off x="6733080" y="5302800"/>
              <a:ext cx="457200" cy="32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6173280" y="500220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2400" spc="-1" strike="noStrike">
                  <a:solidFill>
                    <a:srgbClr val="000000"/>
                  </a:solidFill>
                  <a:latin typeface="Times New Roman"/>
                </a:rPr>
                <a:t>TachoS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93432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5"/>
          <a:srcRect l="2426" t="0" r="608" b="0"/>
          <a:stretch/>
        </p:blipFill>
        <p:spPr>
          <a:xfrm>
            <a:off x="7543800" y="2108160"/>
            <a:ext cx="1143000" cy="711360"/>
          </a:xfrm>
          <a:prstGeom prst="rect">
            <a:avLst/>
          </a:prstGeom>
          <a:ln w="0">
            <a:noFill/>
          </a:ln>
        </p:spPr>
      </p:pic>
      <p:pic>
        <p:nvPicPr>
          <p:cNvPr id="190" name="yrityskortti" descr=""/>
          <p:cNvPicPr/>
          <p:nvPr/>
        </p:nvPicPr>
        <p:blipFill>
          <a:blip r:embed="rId6"/>
          <a:stretch/>
        </p:blipFill>
        <p:spPr>
          <a:xfrm>
            <a:off x="5486400" y="2590920"/>
            <a:ext cx="339840" cy="5461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095880" y="259092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7086600" y="266688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43720" y="179712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iirturi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96800" y="179712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Korti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759240" y="2101680"/>
            <a:ext cx="7317720" cy="3690360"/>
            <a:chOff x="759240" y="2101680"/>
            <a:chExt cx="7317720" cy="3690360"/>
          </a:xfrm>
        </p:grpSpPr>
        <p:pic>
          <p:nvPicPr>
            <p:cNvPr id="196" name="tietokone" descr=""/>
            <p:cNvPicPr/>
            <p:nvPr/>
          </p:nvPicPr>
          <p:blipFill>
            <a:blip r:embed="rId1"/>
            <a:stretch/>
          </p:blipFill>
          <p:spPr>
            <a:xfrm>
              <a:off x="7005600" y="2406600"/>
              <a:ext cx="690480" cy="7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tietokone" descr=""/>
            <p:cNvPicPr/>
            <p:nvPr/>
          </p:nvPicPr>
          <p:blipFill>
            <a:blip r:embed="rId2"/>
            <a:stretch/>
          </p:blipFill>
          <p:spPr>
            <a:xfrm>
              <a:off x="7000560" y="4768920"/>
              <a:ext cx="690840" cy="78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tietokone" descr=""/>
            <p:cNvPicPr/>
            <p:nvPr/>
          </p:nvPicPr>
          <p:blipFill>
            <a:blip r:embed="rId3"/>
            <a:stretch/>
          </p:blipFill>
          <p:spPr>
            <a:xfrm>
              <a:off x="1595160" y="4741920"/>
              <a:ext cx="690840" cy="78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D-Box1" descr=""/>
            <p:cNvPicPr/>
            <p:nvPr/>
          </p:nvPicPr>
          <p:blipFill>
            <a:blip r:embed="rId4"/>
            <a:stretch/>
          </p:blipFill>
          <p:spPr>
            <a:xfrm>
              <a:off x="2205000" y="4692600"/>
              <a:ext cx="4618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D-Box1" descr=""/>
            <p:cNvPicPr/>
            <p:nvPr/>
          </p:nvPicPr>
          <p:blipFill>
            <a:blip r:embed="rId5"/>
            <a:stretch/>
          </p:blipFill>
          <p:spPr>
            <a:xfrm>
              <a:off x="7615080" y="2406600"/>
              <a:ext cx="4618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D-Box1" descr=""/>
            <p:cNvPicPr/>
            <p:nvPr/>
          </p:nvPicPr>
          <p:blipFill>
            <a:blip r:embed="rId6"/>
            <a:stretch/>
          </p:blipFill>
          <p:spPr>
            <a:xfrm>
              <a:off x="7615080" y="4768920"/>
              <a:ext cx="461880" cy="68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2" name=""/>
            <p:cNvGrpSpPr/>
            <p:nvPr/>
          </p:nvGrpSpPr>
          <p:grpSpPr>
            <a:xfrm>
              <a:off x="3815640" y="2867040"/>
              <a:ext cx="1688040" cy="1928880"/>
              <a:chOff x="3815640" y="2867040"/>
              <a:chExt cx="1688040" cy="1928880"/>
            </a:xfrm>
          </p:grpSpPr>
          <p:pic>
            <p:nvPicPr>
              <p:cNvPr id="203" name="tietokone" descr=""/>
              <p:cNvPicPr/>
              <p:nvPr/>
            </p:nvPicPr>
            <p:blipFill>
              <a:blip r:embed="rId7"/>
              <a:stretch/>
            </p:blipFill>
            <p:spPr>
              <a:xfrm>
                <a:off x="4033800" y="3321000"/>
                <a:ext cx="1292040" cy="147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4" name="Solidview%20(iso)" descr=""/>
              <p:cNvPicPr/>
              <p:nvPr/>
            </p:nvPicPr>
            <p:blipFill>
              <a:blip r:embed="rId8"/>
              <a:stretch/>
            </p:blipFill>
            <p:spPr>
              <a:xfrm>
                <a:off x="4186080" y="3397320"/>
                <a:ext cx="76212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>
                <a:off x="3815640" y="2867040"/>
                <a:ext cx="1688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2400" spc="-1" strike="noStrike">
                    <a:solidFill>
                      <a:srgbClr val="000000"/>
                    </a:solidFill>
                    <a:latin typeface="Times New Roman"/>
                  </a:rPr>
                  <a:t>TachoSto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4229280" y="4830840"/>
              <a:ext cx="86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imes New Roman"/>
                </a:rPr>
                <a:t>Pääk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759240" y="2101680"/>
              <a:ext cx="1082160" cy="1023120"/>
              <a:chOff x="759240" y="2101680"/>
              <a:chExt cx="1082160" cy="1023120"/>
            </a:xfrm>
          </p:grpSpPr>
          <p:pic>
            <p:nvPicPr>
              <p:cNvPr id="208" name="tietokone" descr=""/>
              <p:cNvPicPr/>
              <p:nvPr/>
            </p:nvPicPr>
            <p:blipFill>
              <a:blip r:embed="rId9"/>
              <a:stretch/>
            </p:blipFill>
            <p:spPr>
              <a:xfrm>
                <a:off x="846000" y="2101680"/>
                <a:ext cx="646200" cy="73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9" name="D-Box1" descr=""/>
              <p:cNvPicPr/>
              <p:nvPr/>
            </p:nvPicPr>
            <p:blipFill>
              <a:blip r:embed="rId10"/>
              <a:stretch/>
            </p:blipFill>
            <p:spPr>
              <a:xfrm>
                <a:off x="1379520" y="2101680"/>
                <a:ext cx="461880" cy="68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759240" y="2787480"/>
                <a:ext cx="846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600" spc="-1" strike="noStrike">
                    <a:solidFill>
                      <a:srgbClr val="000000"/>
                    </a:solidFill>
                    <a:latin typeface="Times New Roman"/>
                  </a:rPr>
                  <a:t>Etäko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1521000" y="5454720"/>
              <a:ext cx="84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imes New Roman"/>
                </a:rPr>
                <a:t>Etäk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31440" y="3092400"/>
              <a:ext cx="84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imes New Roman"/>
                </a:rPr>
                <a:t>Etäk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18480" y="5454720"/>
              <a:ext cx="84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imes New Roman"/>
                </a:rPr>
                <a:t>Etäk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tiedosto" descr=""/>
            <p:cNvPicPr/>
            <p:nvPr/>
          </p:nvPicPr>
          <p:blipFill>
            <a:blip r:embed="rId11"/>
            <a:stretch/>
          </p:blipFill>
          <p:spPr>
            <a:xfrm>
              <a:off x="1823760" y="3092400"/>
              <a:ext cx="1828800" cy="442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15" name=""/>
            <p:cNvSpPr/>
            <p:nvPr/>
          </p:nvSpPr>
          <p:spPr>
            <a:xfrm flipH="1" flipV="1">
              <a:off x="1594800" y="2863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652560" y="354960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58880" y="3502080"/>
              <a:ext cx="2126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imes New Roman"/>
                </a:rPr>
                <a:t>sähköpostina ta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imes New Roman"/>
                </a:rPr>
                <a:t>palvelimen kaut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imes New Roman"/>
                </a:rPr>
                <a:t>etäkoneelta pääkoneel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2662200" y="4311720"/>
              <a:ext cx="1523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5100480" y="4311720"/>
              <a:ext cx="1905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252400" y="3168720"/>
              <a:ext cx="175284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82080" y="2755800"/>
              <a:ext cx="176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imes New Roman"/>
                </a:rPr>
                <a:t>Tiedosto lähetetää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0" y="304560"/>
            <a:ext cx="9144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7a4e"/>
                </a:solidFill>
                <a:latin typeface="Times New Roman"/>
              </a:rPr>
              <a:t>Suuren kuljetusyrityksen tiedonsii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Times New Roman"/>
              </a:rPr>
              <a:t>Kysymyksiä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2133720"/>
            <a:ext cx="7238880" cy="39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TachoStoren 3 toiminto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Digipiirturilta ja piirturikorteilta tallennettujen tietojen </a:t>
            </a: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varastointi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Digipiirturin tietojen lukeminen ja analysoint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v-SE" sz="1800" spc="-1" strike="noStrike">
                <a:solidFill>
                  <a:srgbClr val="000000"/>
                </a:solidFill>
                <a:latin typeface="Times New Roman"/>
              </a:rPr>
              <a:t>tapahtuma- ja virhetiedot (mm. ylinopeustiedo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v-SE" sz="1800" spc="-1" strike="noStrike">
                <a:solidFill>
                  <a:srgbClr val="000000"/>
                </a:solidFill>
                <a:latin typeface="Times New Roman"/>
              </a:rPr>
              <a:t>päivittäiset toimintatied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v-SE" sz="1800" spc="-1" strike="noStrike">
                <a:solidFill>
                  <a:srgbClr val="000000"/>
                </a:solidFill>
                <a:latin typeface="Times New Roman"/>
              </a:rPr>
              <a:t>nopeustied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v-SE" sz="1800" spc="-1" strike="noStrike">
                <a:solidFill>
                  <a:srgbClr val="000000"/>
                </a:solidFill>
                <a:latin typeface="Times New Roman"/>
              </a:rPr>
              <a:t>tekniset tied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Kuljettajakortin tietojen lukeminen ja analysoint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216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400" spc="-1" strike="noStrike">
                <a:solidFill>
                  <a:srgbClr val="007a4e"/>
                </a:solidFill>
                <a:latin typeface="Times New Roman"/>
              </a:rPr>
              <a:t>YLEISTÄ</a:t>
            </a:r>
            <a:br>
              <a:rPr sz="2400"/>
            </a:br>
            <a:r>
              <a:rPr b="1" lang="sv-SE" sz="2400" spc="-1" strike="noStrike">
                <a:solidFill>
                  <a:srgbClr val="007a4e"/>
                </a:solidFill>
                <a:latin typeface="Times New Roman"/>
              </a:rPr>
              <a:t>TIET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6840" y="4440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82800" y="66672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216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400" spc="-1" strike="noStrike">
                <a:solidFill>
                  <a:srgbClr val="007a4e"/>
                </a:solidFill>
                <a:latin typeface="Times New Roman"/>
              </a:rPr>
              <a:t>YLEISTÄ</a:t>
            </a:r>
            <a:br>
              <a:rPr sz="2400"/>
            </a:br>
            <a:r>
              <a:rPr b="1" lang="sv-SE" sz="2400" spc="-1" strike="noStrike">
                <a:solidFill>
                  <a:srgbClr val="007a4e"/>
                </a:solidFill>
                <a:latin typeface="Times New Roman"/>
              </a:rPr>
              <a:t>TIET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2133720"/>
            <a:ext cx="6248160" cy="29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3 toimintoa = 3 eri .exe-ohjelmist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Tachostore.exe on tietojen varastointi- ja </a:t>
            </a: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tallennusmoduuli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Tachoscope.exe on piirturitietojen tarkastelua ja  </a:t>
            </a: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analysointia varten oleva moduul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Solid32.exe on kuljettajakortin tietojen </a:t>
            </a: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analysointia varten oleva moduul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963720" y="2133720"/>
            <a:ext cx="7570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2800" spc="-1" strike="noStrike">
                <a:solidFill>
                  <a:srgbClr val="000000"/>
                </a:solidFill>
                <a:latin typeface="Times New Roman"/>
              </a:rPr>
              <a:t>Muu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Times New Roman"/>
              </a:rPr>
              <a:t>Ensimmäisen vuoden päivitykset ja tulevat kielenparannuspäivitykset ovat ilmais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Times New Roman"/>
              </a:rPr>
              <a:t>Suomenkielin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Times New Roman"/>
              </a:rPr>
              <a:t>Yksi ohjelmisto toimii yhdellä tietokoneel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Times New Roman"/>
              </a:rPr>
              <a:t>Tiedostot mahdollista tallentaa yhteiselle serverillä oleviin tietokantoih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Times New Roman"/>
              </a:rPr>
              <a:t>Yksittäisen ohjelmiston hinta muodostuu sen mukaan, kuinka monta ohjelmistoa yritys osta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216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400" spc="-1" strike="noStrike">
                <a:solidFill>
                  <a:srgbClr val="007a4e"/>
                </a:solidFill>
                <a:latin typeface="Times New Roman"/>
              </a:rPr>
              <a:t>YLEISTÄ</a:t>
            </a:r>
            <a:br>
              <a:rPr sz="2400"/>
            </a:br>
            <a:r>
              <a:rPr b="1" lang="sv-SE" sz="2400" spc="-1" strike="noStrike">
                <a:solidFill>
                  <a:srgbClr val="007a4e"/>
                </a:solidFill>
                <a:latin typeface="Times New Roman"/>
              </a:rPr>
              <a:t>TIET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6840" y="4440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82800" y="66672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216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400" spc="-1" strike="noStrike">
                <a:solidFill>
                  <a:srgbClr val="007a4e"/>
                </a:solidFill>
                <a:latin typeface="Times New Roman"/>
              </a:rPr>
              <a:t>YLEISTÄ</a:t>
            </a:r>
            <a:br>
              <a:rPr sz="2400"/>
            </a:br>
            <a:r>
              <a:rPr b="1" lang="sv-SE" sz="2400" spc="-1" strike="noStrike">
                <a:solidFill>
                  <a:srgbClr val="007a4e"/>
                </a:solidFill>
                <a:latin typeface="Times New Roman"/>
              </a:rPr>
              <a:t>TIET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2133720"/>
            <a:ext cx="3886200" cy="45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Ohjelmistojen asentamin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Avaa setup.exe aloittaaksesi </a:t>
            </a: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asennukse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Ohjelmistoon pitää syöttää </a:t>
            </a: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installation key eli </a:t>
            </a: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asennuskoodi asennuksen </a:t>
            </a: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yhteydessä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Kaikki 3 eri moduulia </a:t>
            </a: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asentuvat automaattisesti </a:t>
            </a: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yhtäaika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extension%20code%20kopio" descr=""/>
          <p:cNvPicPr/>
          <p:nvPr/>
        </p:nvPicPr>
        <p:blipFill>
          <a:blip r:embed="rId1"/>
          <a:stretch/>
        </p:blipFill>
        <p:spPr>
          <a:xfrm>
            <a:off x="5219640" y="3581280"/>
            <a:ext cx="3467160" cy="1316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6840" y="4440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82800" y="66672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216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400" spc="-1" strike="noStrike">
                <a:solidFill>
                  <a:srgbClr val="007a4e"/>
                </a:solidFill>
                <a:latin typeface="Times New Roman"/>
              </a:rPr>
              <a:t>YLEISTÄ</a:t>
            </a:r>
            <a:br>
              <a:rPr sz="2400"/>
            </a:br>
            <a:r>
              <a:rPr b="1" lang="sv-SE" sz="2400" spc="-1" strike="noStrike">
                <a:solidFill>
                  <a:srgbClr val="007a4e"/>
                </a:solidFill>
                <a:latin typeface="Times New Roman"/>
              </a:rPr>
              <a:t>TIET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2057400"/>
            <a:ext cx="434340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Ohjelmistojen asentamin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Asennuksen jälkeen käyttäjän pitää </a:t>
            </a: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täyttää rekisteröitymiskaavakkeet </a:t>
            </a: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ja lähettää ne Micropross:lle.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Micropross lähettää takaisin </a:t>
            </a: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avauskoodin, jonka syöttäminen </a:t>
            </a: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mahdollistaa ohjelmiston </a:t>
            </a: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rajoittamattoman käytön. Ilman </a:t>
            </a: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koodia ohjelmisto toimii vain </a:t>
            </a: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osittai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229360" y="2057400"/>
          <a:ext cx="3495600" cy="39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9360" y="2057400"/>
                    <a:ext cx="3495600" cy="39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5800" y="340848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073440" y="3983040"/>
            <a:ext cx="21420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60880" y="492588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04560"/>
            <a:ext cx="9144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7a4e"/>
                </a:solidFill>
                <a:latin typeface="Times New Roman"/>
              </a:rPr>
              <a:t>TACHO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21337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2819520"/>
            <a:ext cx="4114800" cy="32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Piirturitiedostot tallentuvat: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ajoneuvon ta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yrityksen muka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tallennuspäivämäärän ja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–ajan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muka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Lisäksi monipuoliset tiedonhakutoiminnot tiedostojen etsimistä var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1905120"/>
            <a:ext cx="868680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Piirturi- ja korttitietojen tallennus- ja varastointiohjelmisto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(vastaa lain (EEC 3821/85 liite 1B) edellyttämiä vaatimuks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Store2" descr=""/>
          <p:cNvPicPr/>
          <p:nvPr/>
        </p:nvPicPr>
        <p:blipFill>
          <a:blip r:embed="rId1"/>
          <a:stretch/>
        </p:blipFill>
        <p:spPr>
          <a:xfrm>
            <a:off x="468360" y="2781360"/>
            <a:ext cx="475128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5800" y="340848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073440" y="3983040"/>
            <a:ext cx="21420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60880" y="492588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04560"/>
            <a:ext cx="9144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7a4e"/>
                </a:solidFill>
                <a:latin typeface="Times New Roman"/>
              </a:rPr>
              <a:t>TACHO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21337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660760"/>
            <a:ext cx="380988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Korttitiedostot tallentuv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kuljettajan muka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tallennuspäivämäärän ja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–ajan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muka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monipuoliset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tiedonhakumahdollisuu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voidaan ottaa tuloste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kuljettajakorteista, jotka pitää        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ladata x pvm sisäll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68360" y="2781360"/>
          <a:ext cx="475128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81360"/>
                    <a:ext cx="475128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08:09:33Z</dcterms:created>
  <dc:creator>Petra</dc:creator>
  <dc:description/>
  <dc:language>en-US</dc:language>
  <cp:lastModifiedBy>Pertti Salmi</cp:lastModifiedBy>
  <dcterms:modified xsi:type="dcterms:W3CDTF">2007-02-20T10:36:22Z</dcterms:modified>
  <cp:revision>113</cp:revision>
  <dc:subject/>
  <dc:title>PowerPoint-presentation</dc:title>
</cp:coreProperties>
</file>